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E998-D591-4AF9-B958-69E15EA1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3DC5-82FC-4719-9B40-CD2660BE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AF74-6AF2-4C99-AC43-14A615BA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ABFA-A5BB-4A94-B5BB-417D7B798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5A49-F8E4-40D0-81D4-9FBE5564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F505-0413-4CCF-BF8C-AC91DE5F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559C-ABC4-4489-90C5-50E8EEC6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8867-041F-4F03-8212-D5C456C5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67B-019C-4245-89DE-7B75050F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9AE7-1C39-4FD7-8C90-205D066F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1F93-33E1-4424-B67B-080FF1EE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35ED-6945-4F40-955E-B57FE262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7474-C395-45B2-83AD-77FD99D39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8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241740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Khalil’s frozen Tre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520" y="4368600"/>
            <a:ext cx="702288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best Treat in the world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t is sold in all the finest restaurants all around the world.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hort n’ sweat Khalil’s Tre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M UM GOOD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910040"/>
            <a:ext cx="1778040" cy="2710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550360" y="4656240"/>
            <a:ext cx="1609560" cy="2963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635200" cy="2879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978360" y="1015920"/>
            <a:ext cx="2859120" cy="1968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84600" y="659160"/>
            <a:ext cx="3720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ot just we love our 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